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17F4-AA2B-4B25-BD98-CFE7A80A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8C6-3F77-48C5-91BD-B7E36F5B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FE5-AD4E-419E-8A5F-613EE04C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01E-10DE-4CFB-B518-ED595CA0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526-E82A-4B4C-B472-50534754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CBE-0601-457F-8F7F-564408D6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0F7-23CE-4E81-8E86-C7DCAE17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3D4-4C4C-44E2-9B8E-221FBBA8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A05-1FC8-4EF4-B6DA-8961407F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59B-A118-476C-9624-2359344C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FE4-83E7-481C-A28A-35031D04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38D-A80B-4FA3-96C3-9D6612F4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5A74-AFBF-4696-87BB-3B12279D6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4 Tvoj návrat, Pane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návrat, Pan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 s túžbou čak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, v žiaľnom sveta údol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k tebe vzhliad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ešte dlho hri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bude panova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drahý Pane, príď už, prí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verných domov vzi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ár tvoju uvid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ť lásky tvojej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ývať s tebou nave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túžbou všetkých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drahý Pan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 neprestáva lk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krásu, ktorú strati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j, prosíme, zas vrá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MD</cp:lastModifiedBy>
  <dcterms:modified xsi:type="dcterms:W3CDTF">2000-12-12T18:21:44Z</dcterms:modified>
  <cp:revision>5</cp:revision>
  <dc:subject/>
  <dc:title>Bez nadpisu</dc:title>
</cp:coreProperties>
</file>